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88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89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90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92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35560" cy="39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ource Sans Pro Black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0" y="0"/>
            <a:ext cx="32781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4278240" y="0"/>
            <a:ext cx="32781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3"/>
          </p:nvPr>
        </p:nvSpPr>
        <p:spPr>
          <a:xfrm>
            <a:off x="427788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defRPr>
            </a:lvl1pPr>
          </a:lstStyle>
          <a:p>
            <a:pPr indent="0" algn="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D96664-372F-4520-80CC-8A0B807117A8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2B9372-191F-4422-93F6-130FE09B8814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83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C39D51-5AA8-460A-B273-4011A6151CB5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5" name="Text Box 3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50A919-15D8-4280-811E-B9769063D461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27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AF0232-BFCF-4015-8B9A-FD4BC7DD6C26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9" name="Text Box 3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7EC330-F2FF-48FE-B73B-5DDF8BAC519A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32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3CCB2E-9C1C-4D23-937E-239780F953BB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4" name="Text Box 3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DA10DA-34AB-4796-9522-6CA188C0E30C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37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EB0977-0819-469C-AA2E-4FF0805F1E07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9" name="Text Box 3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61AB51-3373-4D19-93E3-B0BE97EB82E3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42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220C67-CE87-4721-98E1-5BC97D096A68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44" name="Text Box 3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667F7B-BA8C-429B-BA5D-AFD8A75BADDA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47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E275E6-BA7C-43AC-B059-28029D7875C2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49" name="Text Box 3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D8BE4B-389E-4DFB-B67B-ED7018435039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978BE2-3183-42DC-815C-8396D165E25E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54" name="Text Box 3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B1CF9E-DA2F-42DF-8973-D6EEDB973707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57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F15218-7F81-4BDE-AEC6-58D4D1EFF95F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59" name="Text Box 3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E970E1-C141-495C-84F3-F10F7563FE61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87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555C5B-F3C8-4B2D-AB11-DD912C831A8F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9" name="Text Box 3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02091E-D109-45D5-A637-CE8DAB5D28E6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92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75C1A6-AD81-43D1-8A8C-B0D42BE1343C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4" name="Text Box 3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945621-B360-4CD1-8147-7DC594EBB23A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88899E-8276-4A20-8AC8-5470A8236007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3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CE6DF6-4C45-4604-9562-85A385702E93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02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2D2B55-C812-4A59-B4BF-A21C6C0990E1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4" name="Text Box 3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87B7A2-BC0F-4967-AA97-A357B347BF3C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07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AAB0C3-702E-4BDA-84D2-4A1BFFCAC779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9" name="Text Box 3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15EFC0-C15A-4D79-A7CD-AF6155D33883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12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0514C8-7600-471B-8D66-7996050AF990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4" name="Text Box 3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26A06C-E5A7-4B2E-BD25-8E3E14EFFBFD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7F23F2-D8C5-4C71-8378-CB8DB4A12113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9" name="Text Box 3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844E6B-38A4-46E2-8A67-31EF5940B309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22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8360F9-A6AC-41B8-BFE8-772A8CFCFFC9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4" name="Text Box 3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BBA74-98F7-45B5-BA49-529F491306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028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917100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0000" y="4419000"/>
            <a:ext cx="917100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0133D-5793-4124-A4F1-8C8182425C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028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516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59440" y="1979280"/>
            <a:ext cx="447516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60000" y="4419000"/>
            <a:ext cx="447516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59440" y="4419000"/>
            <a:ext cx="447516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EF5B5-496E-4109-BB46-96B92292CB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028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295272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0680" y="1979280"/>
            <a:ext cx="295272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61360" y="1979280"/>
            <a:ext cx="295272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60000" y="4419000"/>
            <a:ext cx="295272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0680" y="4419000"/>
            <a:ext cx="295272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61360" y="4419000"/>
            <a:ext cx="295272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D4D2E-8461-463F-88B6-3A3175482D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2CF98-87F8-4667-9BC0-08F63F966C4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028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60000" y="1979280"/>
            <a:ext cx="917100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0F161-10A0-45FB-9C5B-BCE2E9A3243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028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917100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4748F-6311-4120-A54F-360E6347005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028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516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9440" y="1979280"/>
            <a:ext cx="447516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48943-6030-4F36-832A-AD669094991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028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226FC-37C6-471B-8522-4C0C36E44EB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60000" y="360360"/>
            <a:ext cx="9350280" cy="41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01AEB-91C6-419F-9B52-30B7B032DD9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028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516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59440" y="1979280"/>
            <a:ext cx="447516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60000" y="4419000"/>
            <a:ext cx="447516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A6AF0-0953-4FA4-9F0F-B86CF8FA33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028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60000" y="1979280"/>
            <a:ext cx="917100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EF78A-00C5-447E-9E56-F9201765BC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028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516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59440" y="1979280"/>
            <a:ext cx="447516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59440" y="4419000"/>
            <a:ext cx="447516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5F6A3-2AAC-4340-A139-34665F52704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028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516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59440" y="1979280"/>
            <a:ext cx="447516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60000" y="4419000"/>
            <a:ext cx="917100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2F33E-1670-4D97-BA8B-C55894D3532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028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917100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60000" y="4419000"/>
            <a:ext cx="917100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04C8C-4ABD-4080-896B-E03DAF7E199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028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516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59440" y="1979280"/>
            <a:ext cx="447516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60000" y="4419000"/>
            <a:ext cx="447516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59440" y="4419000"/>
            <a:ext cx="447516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C2D1D-A926-4574-ACFC-C9F3143A2B5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028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295272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60680" y="1979280"/>
            <a:ext cx="295272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561360" y="1979280"/>
            <a:ext cx="295272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60000" y="4419000"/>
            <a:ext cx="295272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60680" y="4419000"/>
            <a:ext cx="295272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561360" y="4419000"/>
            <a:ext cx="295272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1DB81-52AD-4958-BD41-B7DD656E84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028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917100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A1525-65D7-4F58-98FC-D63FA673A6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028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516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59440" y="1979280"/>
            <a:ext cx="447516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873E2-762F-46DC-A881-F04C9E15CF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028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D8C19-8F60-41DB-AAB7-BAAFCBF746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60000" y="360360"/>
            <a:ext cx="9350280" cy="41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2B0AB-C5EB-4EA5-9641-2E6E724893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028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516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9440" y="1979280"/>
            <a:ext cx="447516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0000" y="4419000"/>
            <a:ext cx="447516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20475-1763-43ED-B702-C8257C8289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028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516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9440" y="1979280"/>
            <a:ext cx="447516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59440" y="4419000"/>
            <a:ext cx="447516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33F03-47E8-4EC6-87BF-DF27065CC2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028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516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59440" y="1979280"/>
            <a:ext cx="447516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60000" y="4419000"/>
            <a:ext cx="917100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25EBA-D325-434D-A02B-876450277E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179280"/>
            <a:ext cx="9720360" cy="126072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7559640" y="6840360"/>
            <a:ext cx="2519280" cy="54000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900000" y="6840360"/>
            <a:ext cx="6480360" cy="540000"/>
          </a:xfrm>
          <a:prstGeom prst="rect">
            <a:avLst/>
          </a:prstGeom>
          <a:solidFill>
            <a:srgbClr val="bdc3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3" name="Rectangle 4"/>
          <p:cNvSpPr/>
          <p:nvPr/>
        </p:nvSpPr>
        <p:spPr>
          <a:xfrm>
            <a:off x="179280" y="6840360"/>
            <a:ext cx="5400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028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ource Sans Pro Black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60000" y="1979280"/>
            <a:ext cx="917100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Click to edit the outline text format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1" marL="343080" indent="-343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Second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2" marL="343080" indent="-343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Third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3" marL="343080" indent="-343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Four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4" marL="343080" indent="-343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Fif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5" marL="343080" indent="-343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Six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6" marL="343080" indent="-343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Seven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Text Box 7"/>
          <p:cNvSpPr/>
          <p:nvPr/>
        </p:nvSpPr>
        <p:spPr>
          <a:xfrm>
            <a:off x="7559640" y="6840360"/>
            <a:ext cx="2336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7" name="Text Box 8"/>
          <p:cNvSpPr/>
          <p:nvPr/>
        </p:nvSpPr>
        <p:spPr>
          <a:xfrm>
            <a:off x="1079640" y="6840360"/>
            <a:ext cx="323676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178920" y="6840000"/>
            <a:ext cx="530280" cy="53028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it-IT" sz="2400" spc="-1" strike="noStrike">
                <a:solidFill>
                  <a:srgbClr val="ffffff"/>
                </a:solidFill>
                <a:latin typeface="Source Sans Pro Black"/>
                <a:ea typeface="源ノ角ゴシック Heavy"/>
              </a:defRPr>
            </a:lvl1pPr>
          </a:lstStyle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549BEF-1B6A-4D18-BABB-B0E75094FF91}" type="slidenum">
              <a:rPr b="1" lang="it-IT" sz="24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"/>
          <p:cNvSpPr/>
          <p:nvPr/>
        </p:nvSpPr>
        <p:spPr>
          <a:xfrm>
            <a:off x="0" y="3149640"/>
            <a:ext cx="9720360" cy="12603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60000" y="3330360"/>
            <a:ext cx="9350280" cy="8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ource Sans Pro Black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539280" y="4680000"/>
            <a:ext cx="9171000" cy="25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marL="226080" indent="0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Click to edit the outline text format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1" marL="226080" indent="-226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Second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2" marL="226080" indent="-226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Third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3" marL="226080" indent="-226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Four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4" marL="226080" indent="-226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Fif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5" marL="226080" indent="-226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Six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6" marL="226080" indent="-226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Seven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7559640" y="6840360"/>
            <a:ext cx="233676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1079640" y="6840360"/>
            <a:ext cx="323676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2"/>
          </p:nvPr>
        </p:nvSpPr>
        <p:spPr>
          <a:xfrm>
            <a:off x="178920" y="6840000"/>
            <a:ext cx="5302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it-IT" sz="2400" spc="-1" strike="noStrike">
                <a:solidFill>
                  <a:srgbClr val="e74c3c"/>
                </a:solidFill>
                <a:latin typeface="Source Sans Pro Black"/>
                <a:ea typeface="源ノ角ゴシック Heavy"/>
              </a:defRPr>
            </a:lvl1pPr>
          </a:lstStyle>
          <a:p>
            <a:pPr indent="0" algn="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238BC3-D32C-489C-A553-30E0FF00B0D5}" type="slidenum">
              <a:rPr b="1" lang="it-IT" sz="2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RT-FS-DATI10/dati10/MIT/MOB_DOLCE/FSC/Progetti%20Presentati/Primo%20Avviso/Figline%20e%20Incisa/154159642506735-1-UP0_BLOB_ARRIVO/Documentazione/Tav%20A04.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360360" y="333072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 fontScale="88000"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Piano Operativo FSC </a:t>
            </a:r>
            <a:br>
              <a:rPr sz="3200"/>
            </a:b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Infrastrutture 2014-2020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475160" y="243000"/>
            <a:ext cx="525600" cy="88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1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18DFE4-EF8E-4AA0-973F-393843B7B2C6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42" name="Text Box 2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Provincia di Arezzo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360360" y="1776240"/>
            <a:ext cx="93931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1c1c1c"/>
                </a:solidFill>
                <a:latin typeface="Source Sans Pro Semibold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5" name=""/>
          <p:cNvGraphicFramePr/>
          <p:nvPr/>
        </p:nvGraphicFramePr>
        <p:xfrm>
          <a:off x="71280" y="1584360"/>
          <a:ext cx="9722160" cy="5175360"/>
        </p:xfrm>
        <a:graphic>
          <a:graphicData uri="http://schemas.openxmlformats.org/drawingml/2006/table">
            <a:tbl>
              <a:tblPr/>
              <a:tblGrid>
                <a:gridCol w="9722160"/>
              </a:tblGrid>
              <a:tr h="69156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Source Sans Pro Black"/>
                          <a:ea typeface="源ノ角ゴシック Heavy"/>
                        </a:rPr>
                        <a:t>VALUTAZIO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209916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Source Sans Pro Semibold"/>
                        </a:rPr>
                        <a:t>lunghezza, 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Source Sans Pro Semibold"/>
                        </a:rPr>
                        <a:t>continuità e connessione dell’itinerario ciclabile con tratte esistenti: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 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 il progetto risolve il collegamento in sicurezza tra i tratti già finanziati posti a monte e a valle, di cui il progetto costituisce un continuum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Source Sans Pro Semibold"/>
                        </a:rPr>
                        <a:t>Qualità dell’intervento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: il progetto, di lunghezza limitata pari a 640 m, ma di complessa realizzazione prevede solo  tratti in sede propria;  l’intervento risente dei vincoli dettati dall’orografia e  prevede il passaggio in prossimità della strada provinciale per migliorarne la fruibilità; necessario il passaggio in area protetta e, quindi, la relativa autorizzazione (tratto 8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66996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Source Sans Pro Black"/>
                          <a:ea typeface="源ノ角ゴシック Heavy"/>
                        </a:rPr>
                        <a:t>FATTORI DI MIGLIORAMEN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1972440">
                <a:tc>
                  <a:txBody>
                    <a:bodyPr lIns="90000" rIns="90000" tIns="348480" bIns="46800" anchor="t">
                      <a:noAutofit/>
                    </a:bodyPr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DA VALUTARE LA SCELTA DELLA TIPOLOGIA DI SOTTOFONDO DA UTILIZZARE (tratti 3 e 7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L’INTERVENTO DOVRÀ ESSERE COMPATIBILE CON L’ADEGUAMENTO DI PERCORSI ESISTENTI ALL’INTERNO DELLA RISERVA NATURALE DI BANDELLA  (VEDI STUDIO DI INCIDENZA TRATTI GIA’ FINANZIATI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VERIFICARE LA CORRETTA ATTRIBUZIONE DELLE VOCI DI SPESA RISPETTO ALL’AMMISSIBILITÀ A CONTRIBUTO (Delibera della GR 758/2018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46" name="Text Box 27"/>
          <p:cNvSpPr/>
          <p:nvPr/>
        </p:nvSpPr>
        <p:spPr>
          <a:xfrm>
            <a:off x="936720" y="6840360"/>
            <a:ext cx="561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6000"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Source Sans Pro Black"/>
                <a:ea typeface="源ノ角ゴシック Heavy"/>
              </a:rPr>
              <a:t>FSC Infrastrutture 2014-2020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1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256682-54D5-43F2-ADB5-0AAFB0D49906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48" name="Text Box 2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 fontScale="94000"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Provincia di Arezzo – Ammissibilità delle spese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428760" y="1655640"/>
            <a:ext cx="9178920" cy="496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83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83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83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83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"/>
          <p:cNvPicPr/>
          <p:nvPr/>
        </p:nvPicPr>
        <p:blipFill>
          <a:blip r:embed="rId2"/>
          <a:stretch/>
        </p:blipFill>
        <p:spPr>
          <a:xfrm>
            <a:off x="1373040" y="1655640"/>
            <a:ext cx="7334280" cy="4248360"/>
          </a:xfrm>
          <a:prstGeom prst="rect">
            <a:avLst/>
          </a:prstGeom>
          <a:ln w="0">
            <a:noFill/>
          </a:ln>
        </p:spPr>
      </p:pic>
      <p:sp>
        <p:nvSpPr>
          <p:cNvPr id="152" name="Rettangolo 1"/>
          <p:cNvSpPr/>
          <p:nvPr/>
        </p:nvSpPr>
        <p:spPr>
          <a:xfrm>
            <a:off x="193680" y="6195960"/>
            <a:ext cx="7583400" cy="9493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it-IT" sz="1800" spc="-1" strike="noStrike">
                <a:solidFill>
                  <a:srgbClr val="ff0000"/>
                </a:solidFill>
                <a:latin typeface="Source Sans Pro"/>
              </a:rPr>
              <a:t>SPESE TECNICHE </a:t>
            </a:r>
            <a:r>
              <a:rPr b="0" i="1" lang="it-IT" sz="1800" spc="-1" strike="noStrike">
                <a:solidFill>
                  <a:srgbClr val="ff0000"/>
                </a:solidFill>
                <a:latin typeface="Source Sans Pro"/>
              </a:rPr>
              <a:t>fino ad un massimo del 10 % dell’importo a base d’appalto, </a:t>
            </a: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it-IT" sz="1800" spc="-1" strike="noStrike">
                <a:solidFill>
                  <a:srgbClr val="ff0000"/>
                </a:solidFill>
                <a:latin typeface="Source Sans Pro"/>
              </a:rPr>
              <a:t>comprensivo degli oneri della sicurezza</a:t>
            </a: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53" name="Ovale 2"/>
          <p:cNvSpPr/>
          <p:nvPr/>
        </p:nvSpPr>
        <p:spPr>
          <a:xfrm>
            <a:off x="7128000" y="3419640"/>
            <a:ext cx="1225440" cy="576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cxnSp>
        <p:nvCxnSpPr>
          <p:cNvPr id="154" name="Connettore 2 4"/>
          <p:cNvCxnSpPr/>
          <p:nvPr/>
        </p:nvCxnSpPr>
        <p:spPr>
          <a:xfrm flipV="1">
            <a:off x="6408720" y="3995280"/>
            <a:ext cx="1008720" cy="2201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1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D16B50-3167-44E6-AB02-C818DBF7875B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56" name="Text Box 2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Comune di Sinalunga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360360" y="1776240"/>
            <a:ext cx="93931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1c1c1c"/>
                </a:solidFill>
                <a:latin typeface="Source Sans Pro Semibold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9" name=""/>
          <p:cNvGraphicFramePr/>
          <p:nvPr/>
        </p:nvGraphicFramePr>
        <p:xfrm>
          <a:off x="71280" y="1584360"/>
          <a:ext cx="9722160" cy="5991120"/>
        </p:xfrm>
        <a:graphic>
          <a:graphicData uri="http://schemas.openxmlformats.org/drawingml/2006/table">
            <a:tbl>
              <a:tblPr/>
              <a:tblGrid>
                <a:gridCol w="9722160"/>
              </a:tblGrid>
              <a:tr h="69156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Source Sans Pro Black"/>
                          <a:ea typeface="源ノ角ゴシック Heavy"/>
                        </a:rPr>
                        <a:t>VALUTAZIO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209916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Source Sans Pro Semibold"/>
                        </a:rPr>
                        <a:t>lunghezza, 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Source Sans Pro Semibold"/>
                        </a:rPr>
                        <a:t>continuità e connessione dell’itinerario ciclabile con tratte esistenti: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 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 si tratta di un collegamento tra il tracciato principale del Sentiero della Bonifica con i centri urbani di Sinalunga (stazione) e Bettole, nonché con alcune itinerari di interesse regionale (Lauretana)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Source Sans Pro Semibold"/>
                        </a:rPr>
                        <a:t>Qualità dell’intervento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: il progetto prevede la realizzazione di due nuovi tratti per un complesso di 12 km passanti da zone a buona valenza storico paesaggistica; da valutare un miglioramento degli interventi proposti, in particolare sul fondo, che sembrano essere insufficienti a garantire la fruizione ciclistic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66996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Source Sans Pro Black"/>
                          <a:ea typeface="源ノ角ゴシック Heavy"/>
                        </a:rPr>
                        <a:t>FATTORI DI MIGLIORAMENTO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3549240">
                <a:tc>
                  <a:txBody>
                    <a:bodyPr lIns="90000" rIns="90000" tIns="348480" bIns="46800" anchor="t">
                      <a:noAutofit/>
                    </a:bodyPr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NECESSARIO CHIARIRE LO STATO DEL PERCORSO, IN PARTICOLARE I «TRATTI ERBOSI» E LE STRADE BIANCHE, PER COMPRENDERE SE RIDURRE LA LUNGHEZZA DEL PERCORSO MIGLIORANDONE LA QUALIT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VALUTARE LA SCELTA DELLA TIPOLOGIA DI SOTTOFONDO DA UTILIZZARE PER I NUOVI TRATTI CICLABIL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INSERIRE UNO SPECIFICO CAPITOLO SULLA EVENTUALE RISPONDENZA A LR 41/20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APPROFONDIRE  LE MODALITÀ DI PASSAGGIO SU PONTI ESISTENTI E PER I QUALI NON E’ PREVISTA RIQUALIFICAZIONE PER GARANTIRE LA SICUREZZA DEGLI UTENTI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ATTRAVERSAMENTI SU SP DA VALUTARE SE NECESSARIO SEMAFORO A CHIAMATA (LIVELLO DI TRAFFICO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SC DEL SANTARELLO A BASSA INTENSITÀ DI TRAFFICO-&gt; CHIARIRE COSA SI INTENDE PER DIMINUZIONE DELLA  VELOCITÀ CONSENTIT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1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A0F7FF-E39E-41DA-B191-D3066690F1EB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Comune di Sansepolcro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360360" y="1776240"/>
            <a:ext cx="93931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1c1c1c"/>
                </a:solidFill>
                <a:latin typeface="Source Sans Pro Semibold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4" name=""/>
          <p:cNvGraphicFramePr/>
          <p:nvPr/>
        </p:nvGraphicFramePr>
        <p:xfrm>
          <a:off x="71280" y="1584360"/>
          <a:ext cx="9722160" cy="5815080"/>
        </p:xfrm>
        <a:graphic>
          <a:graphicData uri="http://schemas.openxmlformats.org/drawingml/2006/table">
            <a:tbl>
              <a:tblPr/>
              <a:tblGrid>
                <a:gridCol w="9722160"/>
              </a:tblGrid>
              <a:tr h="69156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Source Sans Pro Black"/>
                          <a:ea typeface="源ノ角ゴシック Heavy"/>
                        </a:rPr>
                        <a:t>VALUTAZIO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07260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Source Sans Pro Semibold"/>
                        </a:rPr>
                        <a:t>lunghezza, 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Source Sans Pro Semibold"/>
                        </a:rPr>
                        <a:t>continuità e connessione dell’itinerario ciclabile con tratte esistenti: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 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 percorso lungo ben 23 km di connessione tra le Ciclovie dell’Arno e la Tiberina che ricalca la «ciclovia dei 2 mari» presente nel PRIIM. L’intervento rappresenta il primo stralcio di un progetto denominato “ itinerario tra il fiume Arno e Tevere….” inserito nel piano provinciale della mobilità della Provincia di Arezzo, oltre che nel PRIIM e nel PIT.  La continuità è immediatamente realizzata con la Ciclovia Tiberi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Source Sans Pro Semibold"/>
                        </a:rPr>
                        <a:t>Qualità dell’intervento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: il progetto prevede il collegamento tra gli abitati di Le Ville, Anghiari e Sansepolcro lungo la vecchia ferrovia dismessa Arezzo-Fossato di Vico; permette perciò il collegamento tra località ad alto potenziale turistico, la stazione di Sansepolcro, polo di interscambio modale, e la Regione Umbria; in parte sede propria e principalmente con tratti promiscui con traffico ridotto; presenti alcune criticità non risol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66996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Source Sans Pro Black"/>
                          <a:ea typeface="源ノ角ゴシック Heavy"/>
                        </a:rPr>
                        <a:t>FATTORI DI MIGLIORAMEN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1446840">
                <a:tc>
                  <a:txBody>
                    <a:bodyPr lIns="90000" rIns="90000" tIns="348480" bIns="46800" anchor="t">
                      <a:noAutofit/>
                    </a:bodyPr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DA ESCLUDERE INTERVENTI DI MANUTENZIONE ORDINAR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VALUTARE LA SCELTA DELLA TIPOLOGIA DI SOTTOFONDO DA UTILIZZARE PER INTERVENTI DI NUOVA REALIZZAZION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INSERIRE UNO SPECIFICO CAPITOLO SULLA EVENTUALE RISPONDENZA A LR 41/20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EBD26B-772A-45A7-B549-8BF1B54CCA8A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Comune di Calcinaia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360360" y="1776240"/>
            <a:ext cx="93931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1c1c1c"/>
                </a:solidFill>
                <a:latin typeface="Source Sans Pro Semibold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9" name=""/>
          <p:cNvGraphicFramePr/>
          <p:nvPr/>
        </p:nvGraphicFramePr>
        <p:xfrm>
          <a:off x="71280" y="1584360"/>
          <a:ext cx="9722160" cy="5153040"/>
        </p:xfrm>
        <a:graphic>
          <a:graphicData uri="http://schemas.openxmlformats.org/drawingml/2006/table">
            <a:tbl>
              <a:tblPr/>
              <a:tblGrid>
                <a:gridCol w="9722160"/>
              </a:tblGrid>
              <a:tr h="69228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Source Sans Pro Black"/>
                          <a:ea typeface="源ノ角ゴシック Heavy"/>
                        </a:rPr>
                        <a:t>VALUTAZIO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207792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Source Sans Pro Semibold"/>
                        </a:rPr>
                        <a:t>lunghezza, 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Source Sans Pro Semibold"/>
                        </a:rPr>
                        <a:t>continuità e connessione dell’itinerario ciclabile con tratte esistenti: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 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 il progetto risolve il collegamento in sicurezza tra i tratti in fase di realizzazione di Cascina e Pontedera della Ciclopista dell’Arno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Source Sans Pro Semibold"/>
                        </a:rPr>
                        <a:t>Qualità dell’intervento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: il progetto, nonostante ha lunghezza limitata pari a 5,9 km, prevede sia  tratti in sede propria che in promiscuo; si tratta di un itinerario a valenza cicloturistica, più che di mobilità urban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66996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Source Sans Pro Black"/>
                          <a:ea typeface="源ノ角ゴシック Heavy"/>
                        </a:rPr>
                        <a:t>FATTORI DI MIGLIORAMEN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1712880">
                <a:tc>
                  <a:txBody>
                    <a:bodyPr lIns="90000" rIns="90000" tIns="348480" bIns="46800" anchor="t">
                      <a:noAutofit/>
                    </a:bodyPr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VALUTARE LA SCELTA DELLA TIPOLOGIA DI SOTTOFONDO DA UTILIZZARE PER I TRATTI DI NUOVA REALIZZAZION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INSERIRE UNO SPECIFICO CAPITOLO SULLA EVENTUALE RISPONDENZA A LR 41/20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CHIARIRE LA TIPOLOGIA DI ATTRAVERSAMENTO DELLA SR TOSCO-ROMAGNOL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PER LE AREE DI SOSTA UTILIZZARE MODELLO TIP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70" name="Text Box 27"/>
          <p:cNvSpPr/>
          <p:nvPr/>
        </p:nvSpPr>
        <p:spPr>
          <a:xfrm>
            <a:off x="936720" y="6840360"/>
            <a:ext cx="561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6000"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Source Sans Pro Black"/>
                <a:ea typeface="源ノ角ゴシック Heavy"/>
              </a:rPr>
              <a:t>FSC Infrastrutture 2014-2020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1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FE2A23-EDFB-482B-82FF-10440E78AD71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72" name="Text Box 2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Comune di Montignoso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360360" y="1776240"/>
            <a:ext cx="93931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1c1c1c"/>
                </a:solidFill>
                <a:latin typeface="Source Sans Pro Semibold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27"/>
          <p:cNvSpPr/>
          <p:nvPr/>
        </p:nvSpPr>
        <p:spPr>
          <a:xfrm>
            <a:off x="936720" y="6840360"/>
            <a:ext cx="561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6000"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Source Sans Pro Black"/>
                <a:ea typeface="源ノ角ゴシック Heavy"/>
              </a:rPr>
              <a:t>FSC Infrastrutture 2014-2020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71280" y="1584360"/>
          <a:ext cx="9722160" cy="5175360"/>
        </p:xfrm>
        <a:graphic>
          <a:graphicData uri="http://schemas.openxmlformats.org/drawingml/2006/table">
            <a:tbl>
              <a:tblPr/>
              <a:tblGrid>
                <a:gridCol w="9722160"/>
              </a:tblGrid>
              <a:tr h="69156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Source Sans Pro Black"/>
                          <a:ea typeface="源ノ角ゴシック Heavy"/>
                        </a:rPr>
                        <a:t>VALUTAZIO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234252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Source Sans Pro Semibold"/>
                        </a:rPr>
                        <a:t>lunghezza, 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Source Sans Pro Semibold"/>
                        </a:rPr>
                        <a:t>continuità e connessione dell’itinerario ciclabile con tratte esistenti: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 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 il progetto è funzionale  al completamento di ampi tratti già percorribili a nord (comune di Massa) e a sud (Comune di Forte dei Marmi e seguire); con un intervento di lunghezza molto limitata (0,73 km) rende percorribile con continuità tutto il tracciato litoraneo delle province di Massa e Carrara e Lucc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Source Sans Pro Semibold"/>
                        </a:rPr>
                        <a:t>Qualità dell’intervento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: il progetto di lunghezza limitata prevede un percorso completamente in sede propria (con larghezza di 3 metri, affiancata da marciapiede pedonale di 1,6 metri) e la realizzazione di un’area di sost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66996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Source Sans Pro Black"/>
                          <a:ea typeface="源ノ角ゴシック Heavy"/>
                        </a:rPr>
                        <a:t>FATTORI DI MIGLIORAMEN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1446840">
                <a:tc>
                  <a:txBody>
                    <a:bodyPr lIns="90000" rIns="90000" tIns="348480" bIns="46800" anchor="t">
                      <a:noAutofit/>
                    </a:bodyPr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RENDERE COERENTE IL CROPROGRAMMA LAVORI DELLA DOMANDA DI PARTECIPAZIONE E IL CRONOPROGRAMMA DEL PROGETTO (5 MESI INVECE DI 4);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DA DEFINIRE LA TIPOLOGIA DELLE RASTRELLIERE BICI, CHE DOVRÀ ESSERE DEL TIPO “BLOCCATELAIO”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1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6A55BF-BBFC-4A21-ACDB-A579AD71AB11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Comune di San Miniato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360360" y="1776240"/>
            <a:ext cx="93931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1c1c1c"/>
                </a:solidFill>
                <a:latin typeface="Source Sans Pro Semibold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" name=""/>
          <p:cNvGraphicFramePr/>
          <p:nvPr/>
        </p:nvGraphicFramePr>
        <p:xfrm>
          <a:off x="108000" y="1474920"/>
          <a:ext cx="9864720" cy="5986440"/>
        </p:xfrm>
        <a:graphic>
          <a:graphicData uri="http://schemas.openxmlformats.org/drawingml/2006/table">
            <a:tbl>
              <a:tblPr/>
              <a:tblGrid>
                <a:gridCol w="9864720"/>
              </a:tblGrid>
              <a:tr h="69156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Source Sans Pro Black"/>
                          <a:ea typeface="源ノ角ゴシック Heavy"/>
                        </a:rPr>
                        <a:t>VALUTAZIO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185580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Source Sans Pro Semibold"/>
                        </a:rPr>
                        <a:t>lunghezza, 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Source Sans Pro Semibold"/>
                        </a:rPr>
                        <a:t>continuità e connessione dell’itinerario ciclabile con tratte esistenti: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la lunghezza complessiva dei tracciati è di 13 km. Da rilevare che si tratta di tratte che congiungono i centri principali in riva destra dell’Arno, come previsto dall’Accordo del 2015 e in accordo con il PRIIM che prevede la Ciclopista in riva destra (allegato C. 9 del PRIIM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Source Sans Pro Semibold"/>
                        </a:rPr>
                        <a:t>Qualità dell’intervento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: il progetto proposto raggiunge i principali centri abitati lungo la ciclopista, creando una rete percorribile in sicurezz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66996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Source Sans Pro Black"/>
                          <a:ea typeface="源ノ角ゴシック Heavy"/>
                        </a:rPr>
                        <a:t>FATTORI DI MIGLIORAMEN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3549240">
                <a:tc>
                  <a:txBody>
                    <a:bodyPr lIns="90000" rIns="90000" tIns="348480" bIns="46800" anchor="t">
                      <a:noAutofit/>
                    </a:bodyPr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VALUTARE LA SIGNIFICATIVITÀ DI ALCUNI TRA I TRATTI PROPOSTI (Castelfranco di Sotto -&gt; prosecuzione dal centro urbano verso la nuova rotonda; Comune di Cerreto Guidi -&gt; tratto di Ripoli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VALUTARE LA SCELTA DELLA TIPOLOGIA DI SOTTOFONDO DA UTILIZZARE PER I TRATTI DI NUOVA REALIZZAZION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INSERIRE UNO SPECIFICO CAPITOLO SULLA EVENTUALE RISPONDENZA A LR 41/2018;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INTEGRARE IL CRONOPROGRAMMA GENERALE CON IL  CRONOPROGRAMMA DI CERRETO GUID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DA VALUTARE  LE MODALITÀ DI ATTRAVERSAMENTO IN SICUREZZA DEL PONTE DI MARCIGNA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PREVEDERE SEGNALETICA CONFORME ALLA CICLOVIA AR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1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A0E274-3E53-4BB6-8168-EBF1B348196D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02" name="Text Box 2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FASI COPROGETTAZIONE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360360" y="1776240"/>
            <a:ext cx="93931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1c1c1c"/>
                </a:solidFill>
                <a:latin typeface="Source Sans Pro Semibold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"/>
          <p:cNvGraphicFramePr/>
          <p:nvPr/>
        </p:nvGraphicFramePr>
        <p:xfrm>
          <a:off x="-1440" y="1631880"/>
          <a:ext cx="9721800" cy="4983120"/>
        </p:xfrm>
        <a:graphic>
          <a:graphicData uri="http://schemas.openxmlformats.org/drawingml/2006/table">
            <a:tbl>
              <a:tblPr/>
              <a:tblGrid>
                <a:gridCol w="9721800"/>
              </a:tblGrid>
              <a:tr h="73152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Source Sans Pro Black"/>
                          <a:ea typeface="源ノ角ゴシック Heavy"/>
                        </a:rPr>
                        <a:t>- VALUTAZIONE PROGETTO E INDIVIDUAZIONE FATTORI DI MIGLIORAMEN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70668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ff0000"/>
                          </a:solidFill>
                          <a:latin typeface="Source Sans Pro Black"/>
                          <a:ea typeface="源ノ角ゴシック Heavy"/>
                        </a:rPr>
                        <a:t>- APERTURA FASE DI COPROGETTAZIO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668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Source Sans Pro Black"/>
                          <a:ea typeface="源ノ角ゴシック Heavy"/>
                        </a:rPr>
                        <a:t>- SOPRALLUOGHI E APPROFONDIMENT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70668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Source Sans Pro Black"/>
                          <a:ea typeface="源ノ角ゴシック Heavy"/>
                        </a:rPr>
                        <a:t>- CONSEGNA DEI PROGETTI REVISIONAT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2876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Source Sans Pro Black"/>
                          <a:ea typeface="源ノ角ゴシック Heavy"/>
                        </a:rPr>
                        <a:t>- VALUTAZIONE DI COERENZA dei progetti revisionati con le proposte originarie e IDENTIFICAZIONE DEL CONTRIBUTO nei limiti del budget massimo concedibile già stabili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132876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Source Sans Pro Black"/>
                          <a:ea typeface="源ノ角ゴシック Heavy"/>
                        </a:rPr>
                        <a:t>- CHIUSURA FASE DI COPROGETTAZIONE CON AMMISSIONE A FINANZIAMENTO DEI PROGETTI E STIPULA DELLE RELATIVE CONVENZIONI tra la regione egli enti beneficiar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  <p:sp>
        <p:nvSpPr>
          <p:cNvPr id="106" name="Text Box 27"/>
          <p:cNvSpPr/>
          <p:nvPr/>
        </p:nvSpPr>
        <p:spPr>
          <a:xfrm>
            <a:off x="936720" y="6840360"/>
            <a:ext cx="561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6000"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Source Sans Pro Black"/>
                <a:ea typeface="源ノ角ゴシック Heavy"/>
              </a:rPr>
              <a:t>FSC Infrastrutture 2014-2020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1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95F5DA-C1C5-4307-BED1-283DA578C579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Comune di Figline e Incisa Valdarno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360360" y="1776240"/>
            <a:ext cx="93931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1c1c1c"/>
                </a:solidFill>
                <a:latin typeface="Source Sans Pro Semibold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1" name=""/>
          <p:cNvGraphicFramePr/>
          <p:nvPr/>
        </p:nvGraphicFramePr>
        <p:xfrm>
          <a:off x="31680" y="1522440"/>
          <a:ext cx="9721800" cy="5288040"/>
        </p:xfrm>
        <a:graphic>
          <a:graphicData uri="http://schemas.openxmlformats.org/drawingml/2006/table">
            <a:tbl>
              <a:tblPr/>
              <a:tblGrid>
                <a:gridCol w="9721800"/>
              </a:tblGrid>
              <a:tr h="69156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Source Sans Pro Black"/>
                          <a:ea typeface="源ノ角ゴシック Heavy"/>
                        </a:rPr>
                        <a:t>VALUTAZIO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185580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Source Sans Pro Semibold"/>
                        </a:rPr>
                        <a:t>lunghezza, 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Source Sans Pro Semibold"/>
                        </a:rPr>
                        <a:t>continuità e connessione dell’itinerario ciclabile con tratte esistenti: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 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il progetto risolve le 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problematiche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 attualmente esistenti nel Comune di Figline e Incisa che impediscono il collegamento in sicurezza tra il tratto realizzato a Figline e il tratto progettato nel Comune di San Giovanni; risolve inoltre il passaggio sul torrente Cesto nei periodi non siccitosi (attualmente esiste un guado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Source Sans Pro Semibold"/>
                        </a:rPr>
                        <a:t>Qualità dell’intervento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: interventi limitati ma sostanzialmente conformi alle necessità present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66996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Source Sans Pro Black"/>
                          <a:ea typeface="源ノ角ゴシック Heavy"/>
                        </a:rPr>
                        <a:t>FATTORI DI MIGLIORAMEN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2532960">
                <a:tc>
                  <a:txBody>
                    <a:bodyPr lIns="90000" rIns="90000" tIns="348480" bIns="46800" anchor="t">
                      <a:noAutofit/>
                    </a:bodyPr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GARANTIRE STESSA FUNZIONALITA’ CICLOVIA ARNO (CICLOVIA SOLE) ; TRATTO  A-A0 – VALUTARE LA POSSIBILITA’ DI ALLARGARE A 3 M; PREVEDERE SEGNALETICA CONFORME ALLA CICLOVIA AR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VERIFICARE CHE LE CARATTERISTICHE DELLA PASSERELLA SUL CESTO SIANO TALI DA GARANTIRE LA COERENZA CON IL PD DELLA CASSA DI ESPANSIONE «RESTONE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VERIFICARE CHE L’ALTEZZA DEL PARAPETTO + CORRIMANO (ALTEZZA DELLE SPALLETTE) SIA PARI AD ALMENO 150 CM (VEDI DM 557/1999 PER SOVRAPPASSI) </a:t>
                      </a:r>
                      <a:r>
                        <a:rPr b="0" lang="it-IT" sz="1600" spc="-1" strike="noStrike" u="sng">
                          <a:solidFill>
                            <a:srgbClr val="ccccff"/>
                          </a:solidFill>
                          <a:uFillTx/>
                          <a:latin typeface="Source Sans Pro Semibold"/>
                          <a:hlinkClick r:id="rId2"/>
                        </a:rPr>
                        <a:t>TAVOLA 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marL="285840" indent="-285840">
                        <a:lnSpc>
                          <a:spcPct val="10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12" name="Text Box 27"/>
          <p:cNvSpPr/>
          <p:nvPr/>
        </p:nvSpPr>
        <p:spPr>
          <a:xfrm>
            <a:off x="936720" y="6840360"/>
            <a:ext cx="561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6000"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Source Sans Pro Black"/>
                <a:ea typeface="源ノ角ゴシック Heavy"/>
              </a:rPr>
              <a:t>FSC Infrastrutture 2014-2020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C44A79-3B16-4BC5-AA10-07BAB37A5D95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Comune di Pontassieve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360360" y="1776240"/>
            <a:ext cx="93931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1c1c1c"/>
                </a:solidFill>
                <a:latin typeface="Source Sans Pro Semibold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7" name=""/>
          <p:cNvGraphicFramePr/>
          <p:nvPr/>
        </p:nvGraphicFramePr>
        <p:xfrm>
          <a:off x="71280" y="1584360"/>
          <a:ext cx="9722160" cy="5595840"/>
        </p:xfrm>
        <a:graphic>
          <a:graphicData uri="http://schemas.openxmlformats.org/drawingml/2006/table">
            <a:tbl>
              <a:tblPr/>
              <a:tblGrid>
                <a:gridCol w="9722160"/>
              </a:tblGrid>
              <a:tr h="69156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Source Sans Pro Black"/>
                          <a:ea typeface="源ノ角ゴシック Heavy"/>
                        </a:rPr>
                        <a:t>VALUTAZIO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185580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Source Sans Pro Semibold"/>
                        </a:rPr>
                        <a:t>lunghezza, 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Source Sans Pro Semibold"/>
                        </a:rPr>
                        <a:t>continuità e connessione dell’itinerario ciclabile con tratte esistenti: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 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 il progetto, che coinvolge un tratto piuttosto lungo, risolve il collegamento in sicurezza tra i tratti realizzati di Firenze-Girone e Figline e Incisa Valdarno della Ciclovia dell’Arno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Source Sans Pro Semibold"/>
                        </a:rPr>
                        <a:t>Qualità dell’intervento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: il progetto presenta varie tipologie di tracciato e sottofondo; potrebbe essere migliorato in alcuni tratti, in particolare nei Comuni di Fiesole e Pontassieve, identificando un tracciato più aderente all’asta fluvia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66996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Source Sans Pro Black"/>
                          <a:ea typeface="源ノ角ゴシック Heavy"/>
                        </a:rPr>
                        <a:t>FATTORI DI MIGLIORAMEN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2827080">
                <a:tc>
                  <a:txBody>
                    <a:bodyPr lIns="90000" rIns="90000" tIns="348480" bIns="46800" anchor="t">
                      <a:noAutofit/>
                    </a:bodyPr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VALUTARE LA POSSIBILITÀ DI IDENTIFICARE UN TRACCIATO PIÙ ADERENTE ALL’ASTA FLUVIALE E CON PENDENZE PIU’ IDONEE AD UN UTENZA CICLOTURISTICA-&gt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lvl="1" marL="7430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Source Sans Pro Semibold"/>
                          <a:ea typeface="源ノ角ゴシック Medium"/>
                        </a:rPr>
                        <a:t> </a:t>
                      </a: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Source Sans Pro Semibold"/>
                          <a:ea typeface="源ノ角ゴシック Medium"/>
                        </a:rPr>
                        <a:t>TRATTO GIRONE - COMPIOBBI VEDI QUANTO PROPOSTO IN SEDE DI PFE DELLA </a:t>
                      </a:r>
                      <a:r>
                        <a:rPr b="1" lang="it-IT" sz="1400" spc="-1" strike="noStrike" u="sng">
                          <a:solidFill>
                            <a:srgbClr val="ff0000"/>
                          </a:solidFill>
                          <a:uFillTx/>
                          <a:latin typeface="Source Sans Pro Semibold"/>
                          <a:ea typeface="源ノ角ゴシック Medium"/>
                        </a:rPr>
                        <a:t> CICLOVIA DEL SO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lvl="1" marL="7430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Source Sans Pro Semibold"/>
                          <a:ea typeface="源ノ角ゴシック Medium"/>
                        </a:rPr>
                        <a:t>TRATTO COMPIOBBI - LE FALLE – PERCORSO IN SEDE PROPRIA SUL LATO SINISTRO DELLA SS67/ARGINE ARNO +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lvl="1" marL="7430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Source Sans Pro Semibold"/>
                          <a:ea typeface="源ノ角ゴシック Medium"/>
                        </a:rPr>
                        <a:t>ATTRAVERSAMENTO DELL’ABITATO ELLERA SUL VECCHIO TRACCIATO DELLA STATALE, ANCHE IN PROMISCU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lvl="1" marL="7430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Source Sans Pro Semibold"/>
                          <a:ea typeface="源ノ角ゴシック Medium"/>
                        </a:rPr>
                        <a:t>TRATTO LE FALLE – SIECI – PASSAGGIO SULL’ARGINE DEL FIUME  A MARGINE DEI CAMP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VALUTARE LA SCELTA DELLA TIPOLOGIA DI SOTTOFONDO DA UTILIZZA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INSERIRE UNO SPECIFICO CAPITOLO SULLA EVENTUALE RISPONDENZA A LR 41/20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1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03F305-1E72-49D6-82BA-E518653BAF21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FONDO NON ASFALTATO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60360" y="1776240"/>
            <a:ext cx="93931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1c1c1c"/>
                </a:solidFill>
                <a:latin typeface="Source Sans Pro Semibold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"/>
          <p:cNvPicPr/>
          <p:nvPr/>
        </p:nvPicPr>
        <p:blipFill>
          <a:blip r:embed="rId2"/>
          <a:stretch/>
        </p:blipFill>
        <p:spPr>
          <a:xfrm>
            <a:off x="206280" y="1446120"/>
            <a:ext cx="7334280" cy="593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1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EAE271-7017-4A6F-9A44-3ED3E44DE139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LR 41/2018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71280" y="1619280"/>
            <a:ext cx="10009440" cy="575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2000"/>
          </a:bodyPr>
          <a:p>
            <a:pPr>
              <a:lnSpc>
                <a:spcPct val="83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Art.  3 – Tutela dei corsi d’acqua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83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Source Sans Pro Semibold"/>
              </a:rPr>
              <a:t>Negli alvei, nelle golene, sugli argini e nelle aree comprendenti le due fasce di larghezza di dieci metri dal piede esterno dell'argine o, in mancanza, dal ciglio di sponda dei corsi d’acqua del reticolo idrografico sono consentiti : </a:t>
            </a: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83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Source Sans Pro Semibold"/>
              </a:rPr>
              <a:t>… </a:t>
            </a:r>
            <a:r>
              <a:rPr b="1" lang="it-IT" sz="1800" spc="-1" strike="noStrike">
                <a:solidFill>
                  <a:srgbClr val="000000"/>
                </a:solidFill>
                <a:latin typeface="Source Sans Pro Semibold"/>
              </a:rPr>
              <a:t>f) itinerari ciclopedonali;</a:t>
            </a: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83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Source Sans Pro Semibold"/>
              </a:rPr>
              <a:t>Gli interventi  sono </a:t>
            </a:r>
            <a:r>
              <a:rPr b="1" lang="it-IT" sz="1800" spc="-1" strike="noStrike">
                <a:solidFill>
                  <a:srgbClr val="ff0000"/>
                </a:solidFill>
                <a:latin typeface="Source Sans Pro Semibold"/>
              </a:rPr>
              <a:t>consentiti</a:t>
            </a:r>
            <a:r>
              <a:rPr b="1" lang="it-IT" sz="1800" spc="-1" strike="noStrike">
                <a:solidFill>
                  <a:srgbClr val="000000"/>
                </a:solidFill>
                <a:latin typeface="Source Sans Pro Semibold"/>
              </a:rPr>
              <a:t> </a:t>
            </a:r>
            <a:r>
              <a:rPr b="1" lang="it-IT" sz="1800" spc="-1" strike="noStrike">
                <a:solidFill>
                  <a:srgbClr val="ff0000"/>
                </a:solidFill>
                <a:latin typeface="Source Sans Pro Semibold"/>
              </a:rPr>
              <a:t>previa autorizzazione della struttura regionale  competente (Settore Difesa del Suolo)</a:t>
            </a:r>
            <a:r>
              <a:rPr b="1" lang="it-IT" sz="1800" spc="-1" strike="noStrike">
                <a:solidFill>
                  <a:srgbClr val="000000"/>
                </a:solidFill>
                <a:latin typeface="Source Sans Pro Semibold"/>
              </a:rPr>
              <a:t> che verifica la compatibilità idraulica nel rispetto delle seguenti condizioni:</a:t>
            </a: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100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Source Sans Pro Semibold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Source Sans Pro Semibold"/>
              </a:rPr>
              <a:t>sia assicurato il miglioramento o la non alterazione del buon regime delle acque; </a:t>
            </a: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100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Source Sans Pro Semibold"/>
              </a:rPr>
              <a:t>non interferiscano con esigenze di regimazione idraulica, accessibilità e manutenzione del corso d'acqua</a:t>
            </a: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100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Source Sans Pro Semibold"/>
              </a:rPr>
              <a:t>siano compatibili con la presenza di opere idrauliche; </a:t>
            </a: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Source Sans Pro Semibold"/>
              </a:rPr>
              <a:t>non interferiscano con la stabilità del fondo e delle sponde; </a:t>
            </a: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Source Sans Pro Semibold"/>
              </a:rPr>
              <a:t>non vi sia aggravio del rischio in altre aree derivante dalla realizzazione dell'intervento;</a:t>
            </a:r>
            <a:r>
              <a:rPr b="1" lang="it-IT" sz="1800" spc="-1" strike="noStrike">
                <a:solidFill>
                  <a:srgbClr val="ffffff"/>
                </a:solidFill>
                <a:latin typeface="Source Sans Pro Semibold"/>
              </a:rPr>
              <a:t>oi sia </a:t>
            </a:r>
            <a:r>
              <a:rPr b="1" lang="it-IT" sz="1800" spc="-1" strike="noStrike">
                <a:solidFill>
                  <a:srgbClr val="000000"/>
                </a:solidFill>
                <a:latin typeface="Source Sans Pro Semibold"/>
              </a:rPr>
              <a:t>aggravio del rischio per le persone e per l'immobile oggetto dell'intervento; </a:t>
            </a: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Source Sans Pro Semibold"/>
              </a:rPr>
              <a:t>siano adottate nei piani comunali di protezione civile misure per regolarne l'utilizzo in caso di eventi alluvionali</a:t>
            </a: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Source Sans Pro Semibol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100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83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83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83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83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1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5B3293-B5FE-455C-A8EA-C7E49E943BBF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28" name="Text Box 2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 fontScale="88000"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LR 41/2018 -</a:t>
            </a:r>
            <a:r>
              <a:rPr b="1" lang="it-IT" sz="3200" spc="-1" strike="noStrike">
                <a:solidFill>
                  <a:srgbClr val="ffffff"/>
                </a:solidFill>
                <a:latin typeface="Source Sans Pro Semibold"/>
              </a:rPr>
              <a:t>Disposizioni in materia di rischio di alluvioni e di tutela dei corsi d’acqua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287280" y="1619280"/>
            <a:ext cx="9433080" cy="575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83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Art.  3 – Tutela dei corsi d’acqua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83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Source Sans Pro Semibold"/>
              </a:rPr>
              <a:t>Negli alvei, nelle golene, sugli argini e nelle aree comprendenti le due fasce di larghezza di dieci metri dal piede esterno dell'argine o, in mancanza, dal ciglio di sponda dei corsi d’acqua del reticolo idrografico sono consentiti : </a:t>
            </a: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83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Source Sans Pro Semibold"/>
              </a:rPr>
              <a:t>… </a:t>
            </a:r>
            <a:r>
              <a:rPr b="1" lang="it-IT" sz="1800" spc="-1" strike="noStrike">
                <a:solidFill>
                  <a:srgbClr val="000000"/>
                </a:solidFill>
                <a:latin typeface="Source Sans Pro Semibold"/>
              </a:rPr>
              <a:t>f) itinerari ciclopedonali;</a:t>
            </a: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83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Source Sans Pro Semibold"/>
              </a:rPr>
              <a:t>Gli interventi  sono </a:t>
            </a:r>
            <a:r>
              <a:rPr b="1" lang="it-IT" sz="1800" spc="-1" strike="noStrike">
                <a:solidFill>
                  <a:srgbClr val="ff0000"/>
                </a:solidFill>
                <a:latin typeface="Source Sans Pro Semibold"/>
              </a:rPr>
              <a:t>consentiti</a:t>
            </a:r>
            <a:r>
              <a:rPr b="1" lang="it-IT" sz="1800" spc="-1" strike="noStrike">
                <a:solidFill>
                  <a:srgbClr val="000000"/>
                </a:solidFill>
                <a:latin typeface="Source Sans Pro Semibold"/>
              </a:rPr>
              <a:t> </a:t>
            </a:r>
            <a:r>
              <a:rPr b="1" lang="it-IT" sz="1800" spc="-1" strike="noStrike">
                <a:solidFill>
                  <a:srgbClr val="ff0000"/>
                </a:solidFill>
                <a:latin typeface="Source Sans Pro Semibold"/>
              </a:rPr>
              <a:t>previa autorizzazione della struttura regionale  competente (Settore Difesa del Suolo)</a:t>
            </a:r>
            <a:r>
              <a:rPr b="1" lang="it-IT" sz="1800" spc="-1" strike="noStrike">
                <a:solidFill>
                  <a:srgbClr val="000000"/>
                </a:solidFill>
                <a:latin typeface="Source Sans Pro Semibold"/>
              </a:rPr>
              <a:t> che verifica la compatibilità idraulica nel rispetto delle seguenti condizioni:</a:t>
            </a: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100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Source Sans Pro Semibold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Source Sans Pro Semibold"/>
              </a:rPr>
              <a:t>sia assicurato il miglioramento o la non alterazione del buon regime delle acque; </a:t>
            </a: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100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Source Sans Pro Semibold"/>
              </a:rPr>
              <a:t>non interferiscano con esigenze di regimazione idraulica, accessibilità e manutenzione del corso d'acqua</a:t>
            </a: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100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Source Sans Pro Semibold"/>
              </a:rPr>
              <a:t>siano compatibili con la presenza di opere idrauliche; </a:t>
            </a: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Source Sans Pro Semibold"/>
              </a:rPr>
              <a:t>non interferiscano con la stabilità del fondo e delle sponde; </a:t>
            </a: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Source Sans Pro Semibold"/>
              </a:rPr>
              <a:t>non vi sia aggravio del rischio in altre aree derivante dalla realizzazione dell'intervento;</a:t>
            </a:r>
            <a:r>
              <a:rPr b="1" lang="it-IT" sz="1800" spc="-1" strike="noStrike">
                <a:solidFill>
                  <a:srgbClr val="ffffff"/>
                </a:solidFill>
                <a:latin typeface="Source Sans Pro Semibold"/>
              </a:rPr>
              <a:t>i </a:t>
            </a: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Source Sans Pro Semibold"/>
              </a:rPr>
              <a:t>non vi sia aggravio del rischio per le persone; </a:t>
            </a: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100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83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83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83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83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CDF06F-C428-4BBF-BA29-6FEB107372F3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 fontScale="88000"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LR 41/2018 -</a:t>
            </a:r>
            <a:r>
              <a:rPr b="1" lang="it-IT" sz="3200" spc="-1" strike="noStrike">
                <a:solidFill>
                  <a:srgbClr val="ffffff"/>
                </a:solidFill>
                <a:latin typeface="Source Sans Pro Semibold"/>
              </a:rPr>
              <a:t>Disposizioni in materia di rischio di alluvioni e di tutela dei corsi d’acqua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447840" y="1619280"/>
            <a:ext cx="9178920" cy="575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83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Art.  13 – Infrastrutture lineari o a rete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Source Sans Pro Semibold"/>
              </a:rPr>
              <a:t>Gli </a:t>
            </a:r>
            <a:r>
              <a:rPr b="0" lang="it-IT" sz="2000" spc="-1" strike="noStrike">
                <a:solidFill>
                  <a:srgbClr val="ff0000"/>
                </a:solidFill>
                <a:latin typeface="Source Sans Pro Semibold"/>
              </a:rPr>
              <a:t>itinerari ciclopedonali </a:t>
            </a:r>
            <a:r>
              <a:rPr b="1" lang="it-IT" sz="2000" spc="-1" strike="noStrike">
                <a:solidFill>
                  <a:srgbClr val="000000"/>
                </a:solidFill>
                <a:latin typeface="Source Sans Pro Semibold"/>
              </a:rPr>
              <a:t>possono essere realizzati nelle</a:t>
            </a:r>
            <a:r>
              <a:rPr b="1" lang="it-IT" sz="2000" spc="-1" strike="noStrike">
                <a:solidFill>
                  <a:srgbClr val="ffffff"/>
                </a:solidFill>
                <a:latin typeface="Source Sans Pro Semibold"/>
              </a:rPr>
              <a:t> </a:t>
            </a:r>
            <a:r>
              <a:rPr b="1" lang="it-IT" sz="2000" spc="-1" strike="noStrike">
                <a:solidFill>
                  <a:srgbClr val="ff0000"/>
                </a:solidFill>
                <a:latin typeface="Source Sans Pro Semibold"/>
              </a:rPr>
              <a:t>aree a pericolosità per alluvioni frequenti o poco frequenti</a:t>
            </a:r>
            <a:r>
              <a:rPr b="1" lang="it-IT" sz="2000" spc="-1" strike="noStrike">
                <a:solidFill>
                  <a:srgbClr val="000000"/>
                </a:solidFill>
                <a:latin typeface="Source Sans Pro Semibold"/>
              </a:rPr>
              <a:t>, indipendentemente dalla magnitudo idraulica, nel rispetto delle seguenti condizioni:</a:t>
            </a:r>
            <a:endParaRPr b="0" lang="en-US" sz="20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Source Sans Pro Semibold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Source Sans Pro Semibold"/>
              </a:rPr>
              <a:t>venga assicurato il non aggravio delle condizioni di rischio</a:t>
            </a:r>
            <a:endParaRPr b="0" lang="en-US" sz="20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Source Sans Pro Semibold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Source Sans Pro Semibold"/>
              </a:rPr>
              <a:t>siano previste le </a:t>
            </a:r>
            <a:r>
              <a:rPr b="1" lang="it-IT" sz="2000" spc="-1" strike="noStrike">
                <a:solidFill>
                  <a:srgbClr val="ff0000"/>
                </a:solidFill>
                <a:latin typeface="Source Sans Pro Semibold"/>
              </a:rPr>
              <a:t>misure preventive atte a regolarne </a:t>
            </a:r>
            <a:r>
              <a:rPr b="1" lang="it-IT" sz="2000" spc="-1" strike="noStrike">
                <a:solidFill>
                  <a:srgbClr val="000000"/>
                </a:solidFill>
                <a:latin typeface="Source Sans Pro Semibold"/>
              </a:rPr>
              <a:t>l'utilizzo in caso di eventi alluvionali</a:t>
            </a:r>
            <a:endParaRPr b="0" lang="en-US" sz="20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83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83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83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83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0EC2F4-963C-4855-8020-85856AFFB703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36" name="Text Box 2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Comune di Cavriglia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360360" y="1776240"/>
            <a:ext cx="93931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1c1c1c"/>
                </a:solidFill>
                <a:latin typeface="Source Sans Pro Semibold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9" name=""/>
          <p:cNvGraphicFramePr/>
          <p:nvPr/>
        </p:nvGraphicFramePr>
        <p:xfrm>
          <a:off x="50760" y="1474920"/>
          <a:ext cx="9721800" cy="5154480"/>
        </p:xfrm>
        <a:graphic>
          <a:graphicData uri="http://schemas.openxmlformats.org/drawingml/2006/table">
            <a:tbl>
              <a:tblPr/>
              <a:tblGrid>
                <a:gridCol w="9721800"/>
              </a:tblGrid>
              <a:tr h="66996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Source Sans Pro Black"/>
                          <a:ea typeface="源ノ角ゴシック Heavy"/>
                        </a:rPr>
                        <a:t>VALUTAZIO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176508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ff0000"/>
                          </a:solidFill>
                          <a:latin typeface="Source Sans Pro Semibold"/>
                        </a:rPr>
                        <a:t>lunghezza, </a:t>
                      </a:r>
                      <a:r>
                        <a:rPr b="1" lang="it-IT" sz="1500" spc="-1" strike="noStrike">
                          <a:solidFill>
                            <a:srgbClr val="ff0000"/>
                          </a:solidFill>
                          <a:latin typeface="Source Sans Pro Semibold"/>
                        </a:rPr>
                        <a:t>continuità e connessione dell’itinerario ciclabile con tratte esistenti:</a:t>
                      </a:r>
                      <a:r>
                        <a:rPr b="1" lang="it-IT" sz="15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  </a:t>
                      </a: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  si tratta di un collegamento tra il tracciato principale della ciclopista dell’Arno, l’abitato di Cavriglia e alcune zone di interesse naturalistico e sportivo, nonché il comune di Gaiole da cui passa l’Eroica (percorso cicloturistico inserito nella pianificazione della provincia di Siena) che però non è collegata direttamente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ff0000"/>
                          </a:solidFill>
                          <a:latin typeface="Source Sans Pro Semibold"/>
                        </a:rPr>
                        <a:t>Qualità dell’intervento: </a:t>
                      </a: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il progetto prevede la ricucitura di tratti esistenti con tracciati in sede propria e promiscu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66996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Source Sans Pro Black"/>
                          <a:ea typeface="源ノ角ゴシック Heavy"/>
                        </a:rPr>
                        <a:t>FATTORI DI MIGLIORAMEN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2439720">
                <a:tc>
                  <a:txBody>
                    <a:bodyPr lIns="90000" rIns="90000" tIns="34848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VERIFICARE LA FUNZIONALITÀ DEL TRATTO CAVRIGLIA-CONFINE CON GAIOLE; nel comune di Gaiole è stato progettato un percorso che da continuità fino al capoluogo comunale, da garantire corrispondenza al confine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ACQUISIRE LA DOCUMENTAZIONE PROGETTUALE E GLI ACCORDI INERENTI LA REALIZZAZIONE DEL TRATTO INTERMEDIO NELL’AREA EX MINERARIA ENEL DI SANTA BARBAR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VALUTARE LA SCELTA DELLA TIPOLOGIA DI SOTTOFONDO DA UTILIZZA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INSERIRE UNO SPECIFICO CAPITOLO SULLA EVENTUALE RISPONDENZA A LR 41/20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40" name="Text Box 27"/>
          <p:cNvSpPr/>
          <p:nvPr/>
        </p:nvSpPr>
        <p:spPr>
          <a:xfrm>
            <a:off x="936720" y="6840360"/>
            <a:ext cx="561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6000"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Source Sans Pro Black"/>
                <a:ea typeface="源ノ角ゴシック Heavy"/>
              </a:rPr>
              <a:t>FSC Infrastrutture 2014-2020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11T09:09:36Z</dcterms:created>
  <dc:creator>Alessandro Romei</dc:creator>
  <dc:description/>
  <dc:language>en-US</dc:language>
  <cp:lastModifiedBy>MG18492</cp:lastModifiedBy>
  <cp:lastPrinted>2018-04-12T09:36:50Z</cp:lastPrinted>
  <dcterms:modified xsi:type="dcterms:W3CDTF">2019-05-13T20:11:13Z</dcterms:modified>
  <cp:revision>59</cp:revision>
  <dc:subject/>
  <dc:title>Manutenzione del sistema integrato  Ciclopista dell’Arno  - Sentiero della Bonifica</dc:title>
</cp:coreProperties>
</file>